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5CC-B9E4-4FEB-9442-F63E777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C80-ACD8-44B2-BC67-38A33417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F80-D1D3-4123-BB6C-569DF4E9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AC5-D234-49D0-B54A-BC07555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E80-A51F-402C-97B1-6E87A47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50D-38EA-4E3E-B4DA-6C02A90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239-4466-4FCB-8EE0-3DCC569B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261-04AE-4C16-AB23-F28DD54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C6A-DA56-4BD8-BFBB-7C34706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F01-012B-4100-A5F7-5250586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F03-9188-4554-97ED-7A8744D9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A98-AEE2-4A24-9018-9499AA5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529A-D074-4A13-A6E0-AEEB22F6C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nderstanding Hurricane Resiliency in Simple and Complex VWS Environ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095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Paul Rea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liency dynamics of tilted vortices is well established (see Schecter 2008 and refs. there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ar-forced problem lacks a formal theory for the vortex evolution (Jones 1995; Smith et al. 2000; Reasor et al. 20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 model of Reasor et al. (2004) describes vortex tilt asymmetry in terms of a forced, damped oscil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suggests that outer-core wind profile (the vorticity “skirt”) is relevant to vortex resiliency in V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6668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2743200"/>
            <a:ext cx="4800600" cy="2120760"/>
            <a:chOff x="609480" y="2743200"/>
            <a:chExt cx="4800600" cy="2120760"/>
          </a:xfrm>
        </p:grpSpPr>
        <p:grpSp>
          <p:nvGrpSpPr>
            <p:cNvPr id="48" name=""/>
            <p:cNvGrpSpPr/>
            <p:nvPr/>
          </p:nvGrpSpPr>
          <p:grpSpPr>
            <a:xfrm>
              <a:off x="609480" y="2743200"/>
              <a:ext cx="3581280" cy="2120760"/>
              <a:chOff x="609480" y="2743200"/>
              <a:chExt cx="3581280" cy="212076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609480" y="2743200"/>
                <a:ext cx="3581280" cy="2120760"/>
                <a:chOff x="609480" y="2743200"/>
                <a:chExt cx="3581280" cy="212076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609480" y="2743200"/>
                  <a:ext cx="3581280" cy="2120760"/>
                  <a:chOff x="609480" y="2743200"/>
                  <a:chExt cx="3581280" cy="212076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 flipV="1">
                    <a:off x="914040" y="2819520"/>
                    <a:ext cx="0" cy="175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914040" y="4572000"/>
                    <a:ext cx="297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914040" y="3263760"/>
                    <a:ext cx="2743200" cy="13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824">
                        <a:moveTo>
                          <a:pt x="0" y="8"/>
                        </a:moveTo>
                        <a:cubicBezTo>
                          <a:pt x="208" y="8"/>
                          <a:pt x="416" y="8"/>
                          <a:pt x="528" y="8"/>
                        </a:cubicBezTo>
                        <a:cubicBezTo>
                          <a:pt x="640" y="8"/>
                          <a:pt x="624" y="0"/>
                          <a:pt x="672" y="8"/>
                        </a:cubicBezTo>
                        <a:cubicBezTo>
                          <a:pt x="720" y="16"/>
                          <a:pt x="784" y="16"/>
                          <a:pt x="816" y="56"/>
                        </a:cubicBezTo>
                        <a:cubicBezTo>
                          <a:pt x="848" y="96"/>
                          <a:pt x="848" y="152"/>
                          <a:pt x="864" y="248"/>
                        </a:cubicBezTo>
                        <a:cubicBezTo>
                          <a:pt x="880" y="344"/>
                          <a:pt x="888" y="552"/>
                          <a:pt x="912" y="632"/>
                        </a:cubicBezTo>
                        <a:cubicBezTo>
                          <a:pt x="936" y="712"/>
                          <a:pt x="952" y="704"/>
                          <a:pt x="1008" y="728"/>
                        </a:cubicBezTo>
                        <a:cubicBezTo>
                          <a:pt x="1064" y="752"/>
                          <a:pt x="1128" y="760"/>
                          <a:pt x="1248" y="776"/>
                        </a:cubicBezTo>
                        <a:cubicBezTo>
                          <a:pt x="1368" y="792"/>
                          <a:pt x="1648" y="816"/>
                          <a:pt x="1728" y="82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54" name="Text Placeholder 2"/>
                      <p:cNvSpPr txBox="1"/>
                      <p:nvPr/>
                    </p:nvSpPr>
                    <p:spPr>
                      <a:xfrm>
                        <a:off x="609480" y="2743200"/>
                        <a:ext cx="218880" cy="303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55" name=""/>
                  <p:cNvSpPr/>
                  <p:nvPr/>
                </p:nvSpPr>
                <p:spPr>
                  <a:xfrm>
                    <a:off x="3885840" y="4495680"/>
                    <a:ext cx="304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6" name=""/>
                <p:cNvSpPr/>
                <p:nvPr/>
              </p:nvSpPr>
              <p:spPr>
                <a:xfrm>
                  <a:off x="914040" y="3276720"/>
                  <a:ext cx="83772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432">
                      <a:moveTo>
                        <a:pt x="528" y="0"/>
                      </a:moveTo>
                      <a:cubicBezTo>
                        <a:pt x="512" y="92"/>
                        <a:pt x="496" y="184"/>
                        <a:pt x="480" y="240"/>
                      </a:cubicBezTo>
                      <a:cubicBezTo>
                        <a:pt x="464" y="296"/>
                        <a:pt x="456" y="312"/>
                        <a:pt x="432" y="336"/>
                      </a:cubicBezTo>
                      <a:cubicBezTo>
                        <a:pt x="408" y="360"/>
                        <a:pt x="408" y="368"/>
                        <a:pt x="336" y="384"/>
                      </a:cubicBezTo>
                      <a:cubicBezTo>
                        <a:pt x="264" y="400"/>
                        <a:pt x="132" y="416"/>
                        <a:pt x="0" y="4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2361960" y="4191120"/>
                <a:ext cx="121860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768" y="240"/>
                    </a:moveTo>
                    <a:cubicBezTo>
                      <a:pt x="592" y="212"/>
                      <a:pt x="416" y="184"/>
                      <a:pt x="288" y="144"/>
                    </a:cubicBezTo>
                    <a:cubicBezTo>
                      <a:pt x="160" y="104"/>
                      <a:pt x="80" y="52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11200" y="3962520"/>
                <a:ext cx="1294920" cy="60948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816" y="384"/>
                    </a:moveTo>
                    <a:cubicBezTo>
                      <a:pt x="620" y="320"/>
                      <a:pt x="424" y="256"/>
                      <a:pt x="288" y="192"/>
                    </a:cubicBezTo>
                    <a:cubicBezTo>
                      <a:pt x="152" y="128"/>
                      <a:pt x="76" y="6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19160" y="28954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ine w/ Skirt (RW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0" name=""/>
            <p:cNvCxnSpPr/>
            <p:nvPr/>
          </p:nvCxnSpPr>
          <p:spPr>
            <a:xfrm flipV="1" rot="10800000">
              <a:off x="2284920" y="3123000"/>
              <a:ext cx="534240" cy="273960"/>
            </a:xfrm>
            <a:prstGeom prst="curvedConnector5">
              <a:avLst>
                <a:gd name="adj1" fmla="val 41942"/>
                <a:gd name="adj2" fmla="val 50000"/>
                <a:gd name="adj3" fmla="val 4194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6019560" y="2438280"/>
            <a:ext cx="1600560" cy="2743200"/>
            <a:chOff x="6019560" y="2438280"/>
            <a:chExt cx="1600560" cy="2743200"/>
          </a:xfrm>
        </p:grpSpPr>
        <p:sp>
          <p:nvSpPr>
            <p:cNvPr id="62" name=""/>
            <p:cNvSpPr/>
            <p:nvPr/>
          </p:nvSpPr>
          <p:spPr>
            <a:xfrm>
              <a:off x="6095880" y="3124080"/>
              <a:ext cx="144792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2819160"/>
              <a:ext cx="380880" cy="2362320"/>
            </a:xfrm>
            <a:prstGeom prst="downArrow">
              <a:avLst>
                <a:gd name="adj1" fmla="val 50000"/>
                <a:gd name="adj2" fmla="val 15505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2960" y="2438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467480" y="3809880"/>
              <a:ext cx="152640" cy="75960"/>
              <a:chOff x="7467480" y="3809880"/>
              <a:chExt cx="152640" cy="7596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7467480" y="380988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43800" y="380988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H="1" flipV="1">
              <a:off x="6019560" y="38095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095880" y="3809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mulation of shear-forced tilt with equivalent barotropic P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hat way does vortex evolution depend upon outer-core wind prof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797200" cy="297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200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WS_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WS_1.5Gr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WS_2.0Gr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600" y="3428640"/>
            <a:ext cx="2925720" cy="3057840"/>
            <a:chOff x="228600" y="3428640"/>
            <a:chExt cx="2925720" cy="30578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304920" y="3505320"/>
              <a:ext cx="284940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6200000">
              <a:off x="-242640" y="3899880"/>
              <a:ext cx="1219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t amplitud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-242640" y="5500080"/>
              <a:ext cx="1219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t dir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95880" y="3505320"/>
            <a:ext cx="2793960" cy="2990880"/>
            <a:chOff x="6095880" y="3505320"/>
            <a:chExt cx="2793960" cy="299088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6095880" y="3505320"/>
              <a:ext cx="2793960" cy="2990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2" name=""/>
            <p:cNvCxnSpPr/>
            <p:nvPr/>
          </p:nvCxnSpPr>
          <p:spPr>
            <a:xfrm>
              <a:off x="7086600" y="4190040"/>
              <a:ext cx="381600" cy="153000"/>
            </a:xfrm>
            <a:prstGeom prst="curvedConnector5">
              <a:avLst>
                <a:gd name="adj1" fmla="val 50330"/>
                <a:gd name="adj2" fmla="val 50000"/>
                <a:gd name="adj3" fmla="val 503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6553080" y="40384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uristic mode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n-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mulation of shear-forced tilt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al core of CM1 (Bryan and Fritsch 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hat regime are linear results valid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ilt evolve in the presence of instability-driven inner-core mix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4496040" cy="3281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59840" y="640080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. Ryglicki (2009, FSU Prospect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343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on of upper-level centroid relative to lower-level centro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4290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ized simulations using HWRF-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simple and complex VWS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diagnostics for VWS-impact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/Intensity evolution sensitivity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HWRF-X with available obs, e.g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large-scale/local VW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outer-core vorticity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tilt asymme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aul</dc:creator>
  <dc:description/>
  <dc:language>en-US</dc:language>
  <cp:lastModifiedBy> </cp:lastModifiedBy>
  <dcterms:modified xsi:type="dcterms:W3CDTF">2010-01-20T16:36:49Z</dcterms:modified>
  <cp:revision>59</cp:revision>
  <dc:subject/>
  <dc:title>Hurricane Resiliency Dynamics</dc:title>
</cp:coreProperties>
</file>